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9347-1FB3-4A67-8425-59DCCA599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8AD6-B64A-4F4B-A7AD-213B5012A8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D423-794F-4314-B0B9-C67F84801B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3784-BAB3-4601-B0A1-68EABBC2E6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F6DC-DDF0-4C20-A3DE-7BF1FFEA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70B-45E7-4352-A0C0-864CF619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756-B864-4F0B-BC1C-04570FC2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574-0DE0-4746-87B3-DA054C05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50F6-9FD1-4E0D-8726-46B0EFA1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E03F-6FAE-4837-874E-C27E2E01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95E1-B5DB-4A40-A518-ACFB9D86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9E06-0B0A-402F-837C-0F02DC3A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DC82-4479-4E40-99C8-2CDEE9A6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275F-BC57-4A21-A6B5-4BF81311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12CE-9CBF-4F53-90A1-670B1DB3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B86-6E2C-49F6-B6E9-2E287CF6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3001-E085-4432-8C4A-96FA1F4A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DA4D-9325-4818-9536-10D5EA9F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F486-FD43-4ACC-B8A5-27E747C9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D0E6-FF8C-4806-B731-F0109226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7363-FF79-4BDC-BC4E-9E499E26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B80-6AD0-4B02-B223-9D9D8EFB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B84-E177-4791-9497-14278721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9F5-6DFF-4D34-9A8B-3AFF3916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D4D-F601-4D17-9329-11BF9A97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0CE-66D6-4AEA-8DF3-31C05291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2EE-8B1E-466D-8E56-0BD76E1B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BFC-5436-412C-98A6-3FD2CDD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2AE8-A907-4A40-AD1B-1ED56A735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B0D8-E6BC-4DDA-98E4-BCC4CE34C1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ypes of Government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Q = OPEN NOTE Q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he questions on a separate sheet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exchange papers when everyone is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 NOT TALK……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Name the four primary purposes of Governm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349360" y="2666880"/>
            <a:ext cx="444528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In which type of Government do the people have the MOST political voic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152800" y="2971800"/>
            <a:ext cx="4838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90320"/>
            <a:ext cx="86868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In which type of Government do the people have the LEAST political voic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743200" y="3613320"/>
            <a:ext cx="3967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06T17:17:58Z</dcterms:modified>
  <cp:revision>128</cp:revision>
  <dc:subject/>
  <dc:title>D/O: TO EXPLAIN AND IDENTIFY PROBLEMS OF ECONOMICS</dc:title>
</cp:coreProperties>
</file>